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C23-D5AF-4557-A789-77AC7FC6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63E-CAFD-418B-9338-248A9E48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594-5EA9-4078-8CDA-7E9AAE38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D0A-E1BB-406D-8F48-EADDA859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BC7E-2CF1-4E6C-99C6-3A59F8D4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7F7-5290-4200-9A1A-15AA21E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387E-E226-4654-AEA1-48A4EF0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B1CE-C0D9-443E-8FAD-F156AE9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E96-328E-4E28-8586-E79A413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AE6C-050D-46A5-81AA-5B318E3C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719-86C9-49E5-BBE4-D080C47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D1E-8BA9-454E-B6F3-828561DC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FA9F-05CC-40E2-955E-09A73C1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F264-C11E-48A6-8815-749FBEA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6DED-3FAA-431F-B366-179DE365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5C4B-D06C-4181-AF18-0FEE5901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F7E4-3CFE-47CA-A5EF-495DD488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509-8C77-4531-BA30-A5AC2EC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605-B5AF-4885-B27C-9BCBAC5C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E45-BD8F-4B2E-B323-1BAC016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0B9-8357-4239-8C72-7CE119A1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59F-48D0-4D50-B07F-F464E52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6D0-856F-4BCF-8489-B8A5395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6D2-A533-4904-A82A-13CBB46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4F4-E02F-4CD5-9887-4E8BF288BBB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BA7-B2FC-467D-86A8-5DA0CD6F9D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209680" y="990720"/>
            <a:ext cx="48769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33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Comidas Del Dia</a:t>
            </a:r>
            <a:endParaRPr b="0" lang="en-US" sz="4000" spc="1" strike="noStrike">
              <a:ln w="19080">
                <a:solidFill>
                  <a:srgbClr val="9933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62320" y="4800600"/>
            <a:ext cx="42764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Marissa Rizzol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e1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80880" y="533520"/>
            <a:ext cx="836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ra el Desayuno me gust come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0066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2133720" cy="18507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362320" cy="1650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rot="441000">
            <a:off x="22824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 Black"/>
              </a:rPr>
              <a:t>La rosquill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 rot="10059000">
            <a:off x="2971800" y="243720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La lech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475200">
            <a:off x="4952520" y="419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El toci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1310800">
            <a:off x="6846120" y="29721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 Black"/>
              </a:rPr>
              <a:t>Los panquequ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2" dur="1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8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0"/>
            <a:ext cx="6781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Para el almuerzo me gusta come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057400" cy="1954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6324480" y="4648320"/>
            <a:ext cx="2133720" cy="1822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1981440" cy="1968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6019920" y="1295280"/>
            <a:ext cx="2590560" cy="17240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89548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 Black"/>
              </a:rPr>
              <a:t>El perro calient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3657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os nuggets de poll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5867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La ensalad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733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El batid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 Black"/>
              </a:rPr>
              <a:t>El mac y el ques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3352680" y="28954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762120" y="152280"/>
            <a:ext cx="676260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99ff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ara la cena me gusta comer: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50000">
                    <a:srgbClr val="0099ff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914400" cy="175284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3305160" y="2529000"/>
            <a:ext cx="2533680" cy="1800000"/>
            <a:chOff x="3305160" y="2529000"/>
            <a:chExt cx="2533680" cy="1800000"/>
          </a:xfrm>
        </p:grpSpPr>
        <p:sp>
          <p:nvSpPr>
            <p:cNvPr id="376" name=""/>
            <p:cNvSpPr txBox="1"/>
            <p:nvPr/>
          </p:nvSpPr>
          <p:spPr>
            <a:xfrm>
              <a:off x="3305160" y="2529000"/>
              <a:ext cx="253368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1905120" cy="1846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2209680" cy="1655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899400">
            <a:off x="3123720" y="23619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os nach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1216000">
            <a:off x="5562720" y="3580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El arroz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620400">
            <a:off x="3733560" y="50288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a past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1270000">
            <a:off x="76176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La soda de crem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09680" y="304920"/>
            <a:ext cx="4210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99ff"/>
                    </a:gs>
                  </a:gsLst>
                  <a:lin ang="13500000"/>
                </a:gradFill>
                <a:latin typeface="Times New Roman"/>
              </a:rPr>
              <a:t>Los Pos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99ff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198144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2209680" cy="1760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2133720" cy="17161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1905120" cy="1765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rot="741600">
            <a:off x="228240" y="4495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Los browni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672400">
            <a:off x="1981080" y="3429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El helado de vanill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52000">
            <a:off x="4495320" y="426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Las magdalen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881200">
            <a:off x="6705360" y="243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 Black"/>
              </a:rPr>
              <a:t>El chocolate pretzels cubierto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6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99cc"/>
            </a:gs>
            <a:gs pos="100000">
              <a:srgbClr val="33cc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362320" y="152280"/>
            <a:ext cx="48006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Los bacadill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1355760" cy="1790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6248520" y="4648320"/>
            <a:ext cx="1904760" cy="16365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6172200" y="1676520"/>
            <a:ext cx="1752480" cy="1663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1828800" cy="1757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666880" y="1905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os tatas de pop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3581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a manzan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5638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 limonada rosad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38080" y="4038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s papas frit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218960" cy="1571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429000" y="4495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l queso de s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6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42Z</dcterms:created>
  <dc:creator>rizzolomar</dc:creator>
  <dc:description/>
  <dc:language>en-US</dc:language>
  <cp:lastModifiedBy>rizzolomar</cp:lastModifiedBy>
  <dcterms:modified xsi:type="dcterms:W3CDTF">2012-04-05T13:56:36Z</dcterms:modified>
  <cp:revision>13</cp:revision>
  <dc:subject/>
  <dc:title>Las Comidas</dc:title>
</cp:coreProperties>
</file>